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A4968-A22F-41D9-8B3C-7DDF2529C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5EC6-A9CE-413A-8874-9245128FD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A28A9-753F-425A-A287-51CADA6DC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50F9C-AD49-4BAC-822B-1B0773FA7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3FD1-6D3A-4AEB-8C58-3F46D29F3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3066-958C-4B4C-86F3-E02D2888F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C038-E6BC-4447-B80E-C52A3BDB03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41FDF-6162-4551-B929-109C2291C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DF0D-64F4-4DBB-B7AD-16F257592F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C1FD7-5A27-4EAF-AE61-EDEB6356E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7FBC-C737-47CD-9E0E-79F78D3FA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5CF4-678F-4F8F-B301-5342FC0B3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C4C2B6-7E8D-4159-BC98-0BF417467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rcRect l="0" t="1685" r="1635" b="116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rcRect l="0" t="2338" r="1584" b="3799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1295280" y="1600200"/>
            <a:ext cx="7467840" cy="413388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1362240" y="1798560"/>
            <a:ext cx="317160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143000" y="1295280"/>
            <a:ext cx="7543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industria farmaceút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3236760" y="762120"/>
            <a:ext cx="5573880" cy="3192480"/>
          </a:xfrm>
          <a:prstGeom prst="rect">
            <a:avLst/>
          </a:prstGeom>
          <a:ln w="0">
            <a:noFill/>
          </a:ln>
        </p:spPr>
      </p:pic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757520" y="3786120"/>
            <a:ext cx="1544400" cy="8985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371600" y="4751280"/>
            <a:ext cx="900000" cy="1222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438280" y="5522760"/>
            <a:ext cx="1930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ospección y Explora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467160" y="4622760"/>
            <a:ext cx="115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Arial"/>
              </a:rPr>
              <a:t>Preparación y Construcció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rot="19774800">
            <a:off x="3735360" y="42429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rot="19774800">
            <a:off x="2787480" y="507312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524480" y="3529080"/>
            <a:ext cx="70776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746680" y="2949480"/>
            <a:ext cx="70812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7354800" y="2370240"/>
            <a:ext cx="708120" cy="5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3173400" y="1147680"/>
            <a:ext cx="1479600" cy="51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9774800">
            <a:off x="4975200" y="3592080"/>
            <a:ext cx="514440" cy="255600"/>
          </a:xfrm>
          <a:prstGeom prst="rightArrow">
            <a:avLst>
              <a:gd name="adj1" fmla="val 50000"/>
              <a:gd name="adj2" fmla="val 50317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9774800">
            <a:off x="6389640" y="29523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rot="19774800">
            <a:off x="7548480" y="2306160"/>
            <a:ext cx="514440" cy="254160"/>
          </a:xfrm>
          <a:prstGeom prst="rightArrow">
            <a:avLst>
              <a:gd name="adj1" fmla="val 50000"/>
              <a:gd name="adj2" fmla="val 50602"/>
            </a:avLst>
          </a:prstGeom>
          <a:solidFill>
            <a:srgbClr val="0c6db4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143000" y="1295280"/>
            <a:ext cx="320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minerí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599840" y="1523880"/>
            <a:ext cx="3429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...se trata de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istintos modos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e transformar,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de trabajar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con un recurso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y de obtener un producto de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mayor valo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904760" y="1294920"/>
            <a:ext cx="601956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l recurso mineral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sí mismo no tiene valor,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la actividad minera se lo d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447920" y="5334120"/>
            <a:ext cx="5486400" cy="457200"/>
          </a:xfrm>
          <a:prstGeom prst="rect">
            <a:avLst/>
          </a:prstGeom>
          <a:solidFill>
            <a:srgbClr val="0c6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447920" y="3581280"/>
            <a:ext cx="5486400" cy="457200"/>
          </a:xfrm>
          <a:prstGeom prst="rect">
            <a:avLst/>
          </a:prstGeom>
          <a:solidFill>
            <a:srgbClr val="0c6db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219320" y="990720"/>
            <a:ext cx="59436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PERÚ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Tiempos Promedios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600200" y="182880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Exploració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819520" y="190512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5 a 7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2286000"/>
            <a:ext cx="28958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Pre operativo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286000" y="2209680"/>
            <a:ext cx="358128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Oro: 9 años</a:t>
            </a:r>
            <a:br>
              <a:rPr sz="1600"/>
            </a:b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Cobre: 14 años</a:t>
            </a:r>
            <a:br>
              <a:rPr sz="1600"/>
            </a:b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Polimetálico: 16 añ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914400" y="3505320"/>
            <a:ext cx="25909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Total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819520" y="3505320"/>
            <a:ext cx="30477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14 a 23 añ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447920" y="4343400"/>
            <a:ext cx="57150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Inversión Promedio</a:t>
            </a:r>
            <a:br>
              <a:rPr sz="2200"/>
            </a:b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295280" y="4800600"/>
            <a:ext cx="5867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0000"/>
                </a:solidFill>
                <a:latin typeface="Verdana"/>
              </a:rPr>
              <a:t>entr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219320" y="5257800"/>
            <a:ext cx="5943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ffffff"/>
                </a:solidFill>
                <a:latin typeface="Verdana"/>
              </a:rPr>
              <a:t>US$ 35 y 2,000 millon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191120" y="5016600"/>
            <a:ext cx="27939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3,2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191120" y="3111480"/>
            <a:ext cx="23493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504 Tonel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587600" y="1333440"/>
            <a:ext cx="2222280" cy="4318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650960" y="3174840"/>
            <a:ext cx="209556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87600" y="5079960"/>
            <a:ext cx="2222280" cy="571680"/>
          </a:xfrm>
          <a:prstGeom prst="rect">
            <a:avLst/>
          </a:prstGeom>
          <a:solidFill>
            <a:srgbClr val="dc58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523880" y="5143680"/>
            <a:ext cx="2349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3873600" y="3238560"/>
            <a:ext cx="457200" cy="409680"/>
          </a:xfrm>
          <a:prstGeom prst="rect">
            <a:avLst/>
          </a:prstGeom>
          <a:ln w="0">
            <a:noFill/>
          </a:ln>
        </p:spPr>
      </p:pic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3873600" y="5207040"/>
            <a:ext cx="457200" cy="409680"/>
          </a:xfrm>
          <a:prstGeom prst="rect">
            <a:avLst/>
          </a:prstGeom>
          <a:ln w="0">
            <a:noFill/>
          </a:ln>
        </p:spPr>
      </p:pic>
      <p:sp>
        <p:nvSpPr>
          <p:cNvPr id="119" name=""/>
          <p:cNvSpPr/>
          <p:nvPr/>
        </p:nvSpPr>
        <p:spPr>
          <a:xfrm>
            <a:off x="6794640" y="990720"/>
            <a:ext cx="196848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cc3300"/>
                </a:solidFill>
                <a:latin typeface="Verdana"/>
              </a:rPr>
              <a:t>COBRE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4048200" y="4989600"/>
            <a:ext cx="268920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T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1,16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48200" y="3022560"/>
            <a:ext cx="242568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20 Tonelad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60440" y="1187280"/>
            <a:ext cx="2293920" cy="44564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1427040" y="3087720"/>
            <a:ext cx="216072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360440" y="5052960"/>
            <a:ext cx="2293920" cy="5907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295280" y="5118120"/>
            <a:ext cx="242568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3720960" y="3152880"/>
            <a:ext cx="471600" cy="42372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3"/>
          <a:stretch/>
        </p:blipFill>
        <p:spPr>
          <a:xfrm>
            <a:off x="3720960" y="5184720"/>
            <a:ext cx="471600" cy="4222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6730920" y="990720"/>
            <a:ext cx="203220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000099"/>
                </a:solidFill>
                <a:latin typeface="Verdana"/>
              </a:rPr>
              <a:t>ZINC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4094280" y="5021280"/>
            <a:ext cx="30477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1 K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13,55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35440" y="3076560"/>
            <a:ext cx="265752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666,667 Kil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Valor = US$ 0.00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436760" y="1262160"/>
            <a:ext cx="2268360" cy="440856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01920" y="3141720"/>
            <a:ext cx="2138040" cy="3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Material mina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436760" y="5086440"/>
            <a:ext cx="2268360" cy="584280"/>
          </a:xfrm>
          <a:prstGeom prst="rect">
            <a:avLst/>
          </a:prstGeom>
          <a:solidFill>
            <a:srgbClr val="e2ac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371600" y="5151600"/>
            <a:ext cx="239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Metal refinad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2"/>
          <a:stretch/>
        </p:blipFill>
        <p:spPr>
          <a:xfrm>
            <a:off x="3770280" y="3206880"/>
            <a:ext cx="466920" cy="417240"/>
          </a:xfrm>
          <a:prstGeom prst="rect">
            <a:avLst/>
          </a:prstGeom>
          <a:ln w="0">
            <a:noFill/>
          </a:ln>
        </p:spPr>
      </p:pic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3770280" y="5216400"/>
            <a:ext cx="466920" cy="4176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/>
          <p:nvPr/>
        </p:nvSpPr>
        <p:spPr>
          <a:xfrm>
            <a:off x="6748560" y="1066680"/>
            <a:ext cx="2009520" cy="64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e2ac4e"/>
                </a:solidFill>
                <a:latin typeface="Verdana"/>
              </a:rPr>
              <a:t>OR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676520" y="4495680"/>
            <a:ext cx="67053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No existe divergencia </a:t>
            </a:r>
            <a:br>
              <a:rPr sz="2800"/>
            </a:b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entre las exportaciones mineras y el desarrollo de la indust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47920" y="1066680"/>
            <a:ext cx="6858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La disponibilidad de recursos naturales puede ser un elemento clave para el crecimiento en tanto se complement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219320" y="1752480"/>
            <a:ext cx="51051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xportaciones de bienes primari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xportaciones de manufactur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24920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846680"/>
            <a:ext cx="9144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85800" y="44956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c6db4"/>
                </a:solidFill>
                <a:latin typeface="Verdana"/>
              </a:rPr>
              <a:t>Percibidas erradamente como excluy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43000" y="1218960"/>
            <a:ext cx="739152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La evolución positiva del sector minero se ha visto reflejada en la demanda de insumos a la industria naciona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371240" y="2743200"/>
            <a:ext cx="70102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800" spc="-1" strike="noStrike">
                <a:solidFill>
                  <a:srgbClr val="0c6db4"/>
                </a:solidFill>
                <a:latin typeface="Verdana"/>
              </a:rPr>
              <a:t>Estas industria han ampliado sus actividades y estan incursionando en otros país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00200" y="2438280"/>
            <a:ext cx="5943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676520" y="1219320"/>
            <a:ext cx="32763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quipos para procesamiento en general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764200" y="64771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676520" y="1219320"/>
            <a:ext cx="32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quipos electrónicos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1738440" y="1457280"/>
            <a:ext cx="3900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Suministros, partes y piezas y estructura de ac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8764200" y="6477120"/>
            <a:ext cx="232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990720" y="1219320"/>
            <a:ext cx="403848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rincipales consumidores de explosivos, llantas, piezas de jefe y suministros de seguridad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905120" y="914400"/>
            <a:ext cx="66294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Los industriales y los mineros podemos complementarnos y dimensionar nuestras posibilidades de generar valo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600200" y="1009800"/>
            <a:ext cx="3962520" cy="446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Acciones coordinadas y conjunta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Estableciendo mecanismos de información entre ambas actividad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c6db4"/>
                </a:solidFill>
                <a:latin typeface="Verdana"/>
              </a:rPr>
              <a:t>Facilitando la ejecución de planes de inversión e innovación tecnológica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371600" y="1600200"/>
            <a:ext cx="7010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sector minero demandaría bienes y servicios de la industria de acuerdo a sus exigencias de calidad, cantidad, oportunidad y precio adecuad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52480" y="1219320"/>
            <a:ext cx="6477120" cy="420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más que políticas para lograr un crecimiento económ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s crecer hacia nuevas formas de hacer, de relacionarse y por tanto de produci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sólo tiene que ver con apertura comercial y acceso a los merc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ene que ver con la forma en que una economía logra integrarse en sí mis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1523880" y="2438280"/>
            <a:ext cx="39625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jar de exportar recursos naturales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mpezar a exportar bienes elaborados en base a dichos recursos natura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… 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mo la única mane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e lograr el desarro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109440" y="-9401040"/>
            <a:ext cx="8926560" cy="25660080"/>
            <a:chOff x="109440" y="-9401040"/>
            <a:chExt cx="8926560" cy="25660080"/>
          </a:xfrm>
        </p:grpSpPr>
        <p:sp>
          <p:nvSpPr>
            <p:cNvPr id="49" name=""/>
            <p:cNvSpPr/>
            <p:nvPr/>
          </p:nvSpPr>
          <p:spPr>
            <a:xfrm>
              <a:off x="109440" y="-9401040"/>
              <a:ext cx="8137440" cy="25660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" name=""/>
            <p:cNvGrpSpPr/>
            <p:nvPr/>
          </p:nvGrpSpPr>
          <p:grpSpPr>
            <a:xfrm>
              <a:off x="109440" y="-9401040"/>
              <a:ext cx="8926560" cy="24824880"/>
              <a:chOff x="109440" y="-9401040"/>
              <a:chExt cx="8926560" cy="24824880"/>
            </a:xfrm>
          </p:grpSpPr>
          <p:sp>
            <p:nvSpPr>
              <p:cNvPr id="51" name=""/>
              <p:cNvSpPr/>
              <p:nvPr/>
            </p:nvSpPr>
            <p:spPr>
              <a:xfrm>
                <a:off x="109440" y="-9401040"/>
                <a:ext cx="8137440" cy="2482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109440" y="-9401040"/>
                <a:ext cx="8926560" cy="2241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  </a:t>
                </a:r>
                <a:r>
                  <a:rPr b="0" lang="en-US" sz="141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en-US" sz="24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        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3" name=""/>
          <p:cNvGrpSpPr/>
          <p:nvPr/>
        </p:nvGrpSpPr>
        <p:grpSpPr>
          <a:xfrm>
            <a:off x="-563400" y="-23650560"/>
            <a:ext cx="8137440" cy="25660440"/>
            <a:chOff x="-563400" y="-23650560"/>
            <a:chExt cx="8137440" cy="25660440"/>
          </a:xfrm>
        </p:grpSpPr>
        <p:sp>
          <p:nvSpPr>
            <p:cNvPr id="54" name=""/>
            <p:cNvSpPr/>
            <p:nvPr/>
          </p:nvSpPr>
          <p:spPr>
            <a:xfrm>
              <a:off x="-563400" y="-23650560"/>
              <a:ext cx="8137440" cy="256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-563400" y="-23650560"/>
              <a:ext cx="8137440" cy="24825240"/>
              <a:chOff x="-563400" y="-23650560"/>
              <a:chExt cx="8137440" cy="24825240"/>
            </a:xfrm>
          </p:grpSpPr>
          <p:sp>
            <p:nvSpPr>
              <p:cNvPr id="56" name=""/>
              <p:cNvSpPr/>
              <p:nvPr/>
            </p:nvSpPr>
            <p:spPr>
              <a:xfrm>
                <a:off x="-563400" y="-23650560"/>
                <a:ext cx="8137440" cy="248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-563400" y="-23650560"/>
                <a:ext cx="8137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400"/>
                </a:b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" name=""/>
          <p:cNvGrpSpPr/>
          <p:nvPr/>
        </p:nvGrpSpPr>
        <p:grpSpPr>
          <a:xfrm>
            <a:off x="503280" y="-23550480"/>
            <a:ext cx="8137440" cy="25660440"/>
            <a:chOff x="503280" y="-23550480"/>
            <a:chExt cx="8137440" cy="25660440"/>
          </a:xfrm>
        </p:grpSpPr>
        <p:sp>
          <p:nvSpPr>
            <p:cNvPr id="59" name=""/>
            <p:cNvSpPr/>
            <p:nvPr/>
          </p:nvSpPr>
          <p:spPr>
            <a:xfrm>
              <a:off x="503280" y="-23550480"/>
              <a:ext cx="8137440" cy="2566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0" name=""/>
            <p:cNvGrpSpPr/>
            <p:nvPr/>
          </p:nvGrpSpPr>
          <p:grpSpPr>
            <a:xfrm>
              <a:off x="503280" y="-23550480"/>
              <a:ext cx="8137440" cy="24825240"/>
              <a:chOff x="503280" y="-23550480"/>
              <a:chExt cx="8137440" cy="24825240"/>
            </a:xfrm>
          </p:grpSpPr>
          <p:sp>
            <p:nvSpPr>
              <p:cNvPr id="61" name=""/>
              <p:cNvSpPr/>
              <p:nvPr/>
            </p:nvSpPr>
            <p:spPr>
              <a:xfrm>
                <a:off x="503280" y="-23550480"/>
                <a:ext cx="8137440" cy="2482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03280" y="-23550480"/>
                <a:ext cx="81374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br>
                  <a:rPr sz="2400"/>
                </a:b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3" name=""/>
          <p:cNvGrpSpPr/>
          <p:nvPr/>
        </p:nvGrpSpPr>
        <p:grpSpPr>
          <a:xfrm>
            <a:off x="503280" y="27757440"/>
            <a:ext cx="5715000" cy="2651040"/>
            <a:chOff x="503280" y="27757440"/>
            <a:chExt cx="5715000" cy="2651040"/>
          </a:xfrm>
        </p:grpSpPr>
        <p:sp>
          <p:nvSpPr>
            <p:cNvPr id="64" name=""/>
            <p:cNvSpPr/>
            <p:nvPr/>
          </p:nvSpPr>
          <p:spPr>
            <a:xfrm>
              <a:off x="503280" y="27757440"/>
              <a:ext cx="5715000" cy="20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3280" y="27757440"/>
              <a:ext cx="3657600" cy="265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0" lang="en-US" sz="144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47920" y="1066680"/>
            <a:ext cx="6705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ropuesta económica de fina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de los sesent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371600" y="1371600"/>
            <a:ext cx="7086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hoy tiene que ver aprovechar tanto los recurs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angibles como los intangibl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752480"/>
            <a:ext cx="4267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Se ha invertido en capital human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5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66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70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2" name=""/>
          <p:cNvGrpSpPr/>
          <p:nvPr/>
        </p:nvGrpSpPr>
        <p:grpSpPr>
          <a:xfrm>
            <a:off x="1817640" y="1951200"/>
            <a:ext cx="5508720" cy="3324600"/>
            <a:chOff x="1817640" y="1951200"/>
            <a:chExt cx="5508720" cy="3324600"/>
          </a:xfrm>
        </p:grpSpPr>
        <p:sp>
          <p:nvSpPr>
            <p:cNvPr id="173" name=""/>
            <p:cNvSpPr/>
            <p:nvPr/>
          </p:nvSpPr>
          <p:spPr>
            <a:xfrm>
              <a:off x="1817640" y="1951200"/>
              <a:ext cx="5508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817640" y="1951200"/>
              <a:ext cx="3616200" cy="33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en-US" sz="14000" spc="-1" strike="noStrike">
                  <a:solidFill>
                    <a:srgbClr val="000000"/>
                  </a:solidFill>
                  <a:latin typeface="Georgia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1635120" y="2370240"/>
            <a:ext cx="5875200" cy="2117520"/>
            <a:chOff x="1635120" y="2370240"/>
            <a:chExt cx="5875200" cy="2117520"/>
          </a:xfrm>
        </p:grpSpPr>
        <p:sp>
          <p:nvSpPr>
            <p:cNvPr id="176" name=""/>
            <p:cNvSpPr/>
            <p:nvPr/>
          </p:nvSpPr>
          <p:spPr>
            <a:xfrm>
              <a:off x="1635120" y="2370240"/>
              <a:ext cx="5875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635120" y="2370240"/>
              <a:ext cx="5875200" cy="21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0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8" name=""/>
          <p:cNvSpPr/>
          <p:nvPr/>
        </p:nvSpPr>
        <p:spPr>
          <a:xfrm>
            <a:off x="1447920" y="2057400"/>
            <a:ext cx="327636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Contamos con recurso humano, con conocimiento, capacidades y experiencia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-130320" y="-1457280"/>
            <a:ext cx="9406080" cy="9772560"/>
            <a:chOff x="-130320" y="-1457280"/>
            <a:chExt cx="9406080" cy="9772560"/>
          </a:xfrm>
        </p:grpSpPr>
        <p:sp>
          <p:nvSpPr>
            <p:cNvPr id="181" name=""/>
            <p:cNvSpPr/>
            <p:nvPr/>
          </p:nvSpPr>
          <p:spPr>
            <a:xfrm>
              <a:off x="-130320" y="-1457280"/>
              <a:ext cx="6823080" cy="977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-130320" y="-1457280"/>
              <a:ext cx="9406080" cy="22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3" name=""/>
          <p:cNvGrpSpPr/>
          <p:nvPr/>
        </p:nvGrpSpPr>
        <p:grpSpPr>
          <a:xfrm>
            <a:off x="1817640" y="1951200"/>
            <a:ext cx="5508720" cy="3324600"/>
            <a:chOff x="1817640" y="1951200"/>
            <a:chExt cx="5508720" cy="3324600"/>
          </a:xfrm>
        </p:grpSpPr>
        <p:sp>
          <p:nvSpPr>
            <p:cNvPr id="184" name=""/>
            <p:cNvSpPr/>
            <p:nvPr/>
          </p:nvSpPr>
          <p:spPr>
            <a:xfrm>
              <a:off x="1817640" y="1951200"/>
              <a:ext cx="55087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817640" y="1951200"/>
              <a:ext cx="3616200" cy="332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  </a:t>
              </a:r>
              <a:r>
                <a:rPr b="0" lang="en-US" sz="14000" spc="-1" strike="noStrike">
                  <a:solidFill>
                    <a:srgbClr val="000000"/>
                  </a:solidFill>
                  <a:latin typeface="Georgia"/>
                </a:rPr>
                <a:t> </a:t>
              </a:r>
              <a:r>
                <a:rPr b="0" lang="en-US" sz="2400" spc="-1" strike="noStrike">
                  <a:solidFill>
                    <a:srgbClr val="000000"/>
                  </a:solidFill>
                  <a:latin typeface="Georgia"/>
                </a:rPr>
                <a:t>               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1635120" y="2370240"/>
            <a:ext cx="5875200" cy="2117520"/>
            <a:chOff x="1635120" y="2370240"/>
            <a:chExt cx="5875200" cy="2117520"/>
          </a:xfrm>
        </p:grpSpPr>
        <p:sp>
          <p:nvSpPr>
            <p:cNvPr id="187" name=""/>
            <p:cNvSpPr/>
            <p:nvPr/>
          </p:nvSpPr>
          <p:spPr>
            <a:xfrm>
              <a:off x="1635120" y="2370240"/>
              <a:ext cx="5875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635120" y="2370240"/>
              <a:ext cx="5875200" cy="21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 </a:t>
              </a:r>
              <a:r>
                <a:rPr b="1" lang="en-US" sz="10900" spc="-1" strike="noStrike">
                  <a:solidFill>
                    <a:srgbClr val="000000"/>
                  </a:solidFill>
                  <a:latin typeface="Times New Roman"/>
                </a:rPr>
                <a:t> 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                            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1143000" y="1600200"/>
            <a:ext cx="3733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Hubiera sido más provechoso para el país, exportar talentos que exportar personas con talent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752480" y="2438280"/>
            <a:ext cx="6324840" cy="217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 desarrollo hoy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iene que ver con lograr hacer de las ventajas que se tienen se conviertan en un elemento de competencia positiva respecto de los otros país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209680" y="1752480"/>
            <a:ext cx="6324840" cy="35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Elementos para defini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ventaja comparativ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ximidad a merc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ocimiento téc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pital humano disponi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sponibilidad de infraestructura públ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alidad de instituci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752480" y="914400"/>
            <a:ext cx="56390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roximidad a mercad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752480" y="914400"/>
            <a:ext cx="7010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onocimiento técnico y capital huma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752480" y="914400"/>
            <a:ext cx="701064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Disponibilidad de infraestructura públic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752480" y="1371600"/>
            <a:ext cx="6934320" cy="45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Tiene el Perú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Instituciones de calida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ecesitamos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an sólidas, técnicas y transpar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umplan a cabalidad su rol normativo, regulador y fiscaliz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Que estén presentes en los rincones del país donde sean neces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1676520" y="2666880"/>
            <a:ext cx="6476760" cy="107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Pero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resultados no fueron los esper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752480" y="2514600"/>
            <a:ext cx="693432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Necesitamos qu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haya ruido polí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reponga el principio de autori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gobierno de señales claras que democracia es respetar las ley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1905120"/>
            <a:ext cx="5638680" cy="340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base al esfuerzo y empeño de nuestra gente contamos con parte de las variables requeridas.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Pero necesitamos instituciones que funcionen, se respeten y hagan respet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Que el estado cumpla con un rol subsidiario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8763480" y="6477120"/>
            <a:ext cx="2844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8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1371600"/>
            <a:ext cx="71629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57960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."La dicotomía entre una base de recursos naturales y la 'economía del conocimiento' es falsa. Los recursos naturales tienen el mismo gran potencial para generar progreso tecnológico y crecimiento que muchas industrias manufactureras. Al igual que otras industrias, su éxito depende de la aplicación de conocimientos, capital humano, instituciones sólidas y el compromiso de aprovechar las reservas globales de conocimientos prácticos y progreso tecnológico"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79600"/>
                <a:tab algn="l" pos="677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5120" y="1066320"/>
            <a:ext cx="457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Dos elementos claves </a:t>
            </a:r>
            <a:br>
              <a:rPr sz="2800"/>
            </a:b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no considerado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905120" y="2286000"/>
            <a:ext cx="5943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000000"/>
                </a:solidFill>
                <a:latin typeface="Verdana"/>
              </a:rPr>
              <a:t>Acceso a la tecnología adecu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xistencia de mercados exteri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1295280" y="1295280"/>
            <a:ext cx="6019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Hoy el Perú es un exportador más sól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048120" y="5029200"/>
            <a:ext cx="5715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Ofrece productos primarios y muchos no tradicion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1371600" y="1295280"/>
            <a:ext cx="6934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Ambos tipos de exportacion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c6db4"/>
                </a:solidFill>
                <a:latin typeface="Verdana"/>
              </a:rPr>
              <a:t>son importantes y añaden valor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410080" y="472608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142640" y="4800240"/>
            <a:ext cx="754380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las operaciones mineras </a:t>
            </a:r>
            <a:br>
              <a:rPr sz="2800"/>
            </a:b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no </a:t>
            </a:r>
            <a:r>
              <a:rPr b="1" lang="en-US" sz="2800" spc="-1" strike="noStrike">
                <a:solidFill>
                  <a:srgbClr val="0c6db4"/>
                </a:solidFill>
                <a:latin typeface="Verdana"/>
              </a:rPr>
              <a:t>sólo se tratan de la extracción </a:t>
            </a:r>
            <a:br>
              <a:rPr sz="2800"/>
            </a:br>
            <a:r>
              <a:rPr b="1" lang="en-US" sz="2800" spc="-1" strike="noStrike">
                <a:solidFill>
                  <a:srgbClr val="0c6db4"/>
                </a:solidFill>
                <a:latin typeface="Verdana"/>
              </a:rPr>
              <a:t>y venta de minerales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718160"/>
            <a:ext cx="213372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1219320" y="1905120"/>
            <a:ext cx="7619760" cy="3754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1219320" y="2239920"/>
            <a:ext cx="260640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143000" y="1295280"/>
            <a:ext cx="57150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…</a:t>
            </a:r>
            <a:r>
              <a:rPr b="1" lang="es-ES_tradnl" sz="2800" spc="-1" strike="noStrike">
                <a:solidFill>
                  <a:srgbClr val="0c6db4"/>
                </a:solidFill>
                <a:latin typeface="Verdana"/>
              </a:rPr>
              <a:t>en la industria text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6T13:38:07Z</dcterms:created>
  <dc:creator>----- -----</dc:creator>
  <dc:description/>
  <dc:language>en-US</dc:language>
  <cp:lastModifiedBy>PCLARCE</cp:lastModifiedBy>
  <cp:lastPrinted>2004-10-27T01:23:05Z</cp:lastPrinted>
  <dcterms:modified xsi:type="dcterms:W3CDTF">2004-10-27T23:44:43Z</dcterms:modified>
  <cp:revision>56</cp:revision>
  <dc:subject/>
  <dc:title>PowerPoint Presentation</dc:title>
</cp:coreProperties>
</file>